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23.wmf" ContentType="image/x-wmf"/>
  <Override PartName="/ppt/media/image7.wmf" ContentType="image/x-wmf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0.wmf" ContentType="image/x-wmf"/>
  <Override PartName="/ppt/media/image12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30.wmf" ContentType="image/x-wmf"/>
  <Override PartName="/ppt/media/image31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12AF-D040-49FF-B606-9B316504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3152-3D50-43F2-AD30-174EB64F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8F3-803F-4FB4-8414-2E9F8161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E893-4E1D-4C73-9265-001AFF2A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7904-6B9C-47CA-A671-DE5076A9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12C-897F-4478-83B0-09CCC58B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1E3-30D0-44B5-BFE5-E17F2B1F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CC92-AE52-49D3-8420-4E1F4E70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BCC7-4C6C-4DFC-BF21-6F4827D8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492-F16D-4589-ADF5-39087E90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66E4-D411-422C-8971-6FA966E4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43F-34D7-482D-B786-21942C26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FDEC-E791-4C5B-9402-33FC26189F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wmf"/><Relationship Id="rId14" Type="http://schemas.openxmlformats.org/officeDocument/2006/relationships/image" Target="../media/image25.wmf"/><Relationship Id="rId15" Type="http://schemas.openxmlformats.org/officeDocument/2006/relationships/image" Target="../media/image26.wmf"/><Relationship Id="rId16" Type="http://schemas.openxmlformats.org/officeDocument/2006/relationships/image" Target="../media/image27.wmf"/><Relationship Id="rId17" Type="http://schemas.openxmlformats.org/officeDocument/2006/relationships/image" Target="../media/image28.wmf"/><Relationship Id="rId1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ПОСОБ УПОТРЕБЛЕНИЯ ПИЩ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flipH="1" rot="10800000">
            <a:off x="5638680" y="2514240"/>
            <a:ext cx="1779840" cy="2048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ДУКТЫ, МЕШАЮЩИЕ ПИЩЕВАРЕНИ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2590560"/>
            <a:ext cx="3809880" cy="2895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ф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ксу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трые спе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05520" y="3352680"/>
            <a:ext cx="14032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705720" y="3962520"/>
            <a:ext cx="1425600" cy="151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553080" y="5562720"/>
            <a:ext cx="12193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90720" y="5073480"/>
            <a:ext cx="1687320" cy="1327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5800" y="571500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flipH="1">
            <a:off x="1981080" y="5407200"/>
            <a:ext cx="1067040" cy="841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371600" y="5715000"/>
            <a:ext cx="762120" cy="66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38080" y="5715000"/>
            <a:ext cx="482760" cy="758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895480" y="5334120"/>
            <a:ext cx="1524240" cy="1274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7620120" y="4114800"/>
            <a:ext cx="1057320" cy="1992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5257800" y="5345280"/>
            <a:ext cx="2286000" cy="1360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5867280" y="4724280"/>
            <a:ext cx="1521000" cy="514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УДАЧНЫЕ СОЧЕ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рукты и овощ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ахар, молоко и яй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вощи и обильные десер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809880" y="5715000"/>
            <a:ext cx="137160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3048120" y="5867280"/>
            <a:ext cx="593640" cy="758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2362320" y="6095880"/>
            <a:ext cx="990360" cy="60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914400" y="5715000"/>
            <a:ext cx="1219320" cy="776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3505320" y="6172200"/>
            <a:ext cx="990360" cy="528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6"/>
          <a:stretch/>
        </p:blipFill>
        <p:spPr>
          <a:xfrm>
            <a:off x="2057400" y="6172200"/>
            <a:ext cx="411120" cy="471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7"/>
          <a:stretch/>
        </p:blipFill>
        <p:spPr>
          <a:xfrm>
            <a:off x="2438280" y="6400800"/>
            <a:ext cx="38412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5943600" cy="310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 БОЛЬШОЕ РАЗНООБРАЗ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нообразие должно быть от приёма пищи к приёму, а не за один раз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о различных питательных веществ конкурируют за доступ к пищеварительным фермента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же, слишком сложные блюда вызывают войну в желу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СИСТЕНЦИЯ ПИЩ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вёрдая и сухая пища предпочтительн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собствует тщательному пережёвыв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7339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крепляет зубы и желу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2814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контролировать аппет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859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избавиться от пристраст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слишком сладкой или солёной пищ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48520" y="3048120"/>
            <a:ext cx="27176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ЁГКИЕ УПРАЖ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ёгкие упражнения до приёма пищи способствуют хорошему аппетит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улка после еды способствует лучшему усвоению пищ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мните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отребление воды в промежутках между приёмами пищи, правильная осанка и удобная одежда – очень важны для хорошего пищевар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9532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УДЬТЕ БЛАГОДАР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уппу студентов, думавших о приятном во время приёма пищи, сравнили с группой студентов, пытавшихся решать математические задач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 студентов первой групп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ее выделение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ее сильная щелочная среда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ий уровень выделения ферм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72200" y="2362320"/>
            <a:ext cx="236232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СОВЕТЫ ПО УПОТРЕБЛЕНИЮ ПИЩ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оздерживайтесь от перекусыв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потребляйте пищу тёпл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щательно пережёвывайт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вёрдая и сухая консистенция предпочтительне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е ешьте много разных продуктов за один приё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неудачных сочет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продуктов, мешающих пищеварени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еред и после приёма пищи делайте лёгкие упражн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Будьте благодар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666880" y="2089080"/>
            <a:ext cx="4419720" cy="4300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286000"/>
          <a:ext cx="8305920" cy="4059360"/>
        </p:xfrm>
        <a:graphic>
          <a:graphicData uri="http://schemas.openxmlformats.org/drawingml/2006/table">
            <a:tbl>
              <a:tblPr/>
              <a:tblGrid>
                <a:gridCol w="4397400"/>
                <a:gridCol w="3908520"/>
              </a:tblGrid>
              <a:tr h="985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яние вида пищи, принимаемой через 2 часа после завтрака, на его перевари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ы, принимаемые через 2 часа после завтра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, когда остатки завтрака всё ещё находятся в желуд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стаканчик мороженно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бан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аса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часов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895480"/>
            <a:ext cx="1752480" cy="222264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5029200"/>
            <a:ext cx="22100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819520"/>
            <a:ext cx="1752480" cy="222228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298600"/>
            <a:ext cx="2667240" cy="2806920"/>
          </a:xfrm>
          <a:custGeom>
            <a:avLst/>
            <a:gdLst/>
            <a:ahLst/>
            <a:rect l="l" t="t" r="r" b="b"/>
            <a:pathLst>
              <a:path w="1680" h="1768">
                <a:moveTo>
                  <a:pt x="0" y="1768"/>
                </a:moveTo>
                <a:cubicBezTo>
                  <a:pt x="72" y="1188"/>
                  <a:pt x="144" y="608"/>
                  <a:pt x="288" y="328"/>
                </a:cubicBezTo>
                <a:cubicBezTo>
                  <a:pt x="432" y="48"/>
                  <a:pt x="632" y="0"/>
                  <a:pt x="864" y="88"/>
                </a:cubicBezTo>
                <a:cubicBezTo>
                  <a:pt x="1096" y="176"/>
                  <a:pt x="1388" y="516"/>
                  <a:pt x="1680" y="8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362320"/>
            <a:ext cx="1600200" cy="130788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234936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228600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41911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кусы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41911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3581280"/>
            <a:ext cx="3200400" cy="470160"/>
          </a:xfrm>
          <a:custGeom>
            <a:avLst/>
            <a:gdLst/>
            <a:ahLst/>
            <a:rect l="l" t="t" r="r" b="b"/>
            <a:pathLst>
              <a:path w="2016" h="296">
                <a:moveTo>
                  <a:pt x="0" y="48"/>
                </a:moveTo>
                <a:cubicBezTo>
                  <a:pt x="336" y="172"/>
                  <a:pt x="672" y="296"/>
                  <a:pt x="1008" y="288"/>
                </a:cubicBezTo>
                <a:cubicBezTo>
                  <a:pt x="1344" y="280"/>
                  <a:pt x="1680" y="140"/>
                  <a:pt x="2016" y="0"/>
                </a:cubicBezTo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91652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ПОТРЕБЛЯЙТЕ ПИЩУ ТЁПЛ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ение как горячей, так и холодной пищи задерживает пищева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тщательно проведённом исследовании 2064 людей, больных раком желудка, были рассмотрены для определения возможной причины заболевания. Результаты исследования показали, что 17% из группы, предпочитающей горячую пищу, имели самый высокий риск заболевания раком желуд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ФЛЕТЧЕРИЗ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учи хронически больным разработал методику же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20040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ностью излечился     и издал несколько бестселл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4495680"/>
            <a:ext cx="358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 забыт из-за утомительности и            малоэстетичности мет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114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ЩАТЕЛЬНО ПЕРЕЖЁВЫВАЙТЕ ПИЩ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2819520"/>
            <a:ext cx="4876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Ешьте медленно, и т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юна будет тщатель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мешиваться с пищей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Элен Уай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«Советы по пище и питани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1:40:46Z</dcterms:created>
  <dc:creator>Ostapenco</dc:creator>
  <dc:description/>
  <dc:language>en-US</dc:language>
  <cp:lastModifiedBy>Черевичная Вера Петровна</cp:lastModifiedBy>
  <dcterms:modified xsi:type="dcterms:W3CDTF">2007-05-15T18:46:22Z</dcterms:modified>
  <cp:revision>40</cp:revision>
  <dc:subject/>
  <dc:title>СПОСОБ УПОТРЕБЛЕНИЯ ПИЩИ</dc:title>
</cp:coreProperties>
</file>